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55E-1324-4EF3-984B-0C79F20A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171-898A-4A97-B71C-D7AC5BAB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C0B-9935-4041-B70F-18CBB98F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8E3-FB53-4816-AF77-7528B30F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DD5-9DC9-4234-8BDB-251CD112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BC9-A5FC-4553-B018-9243866C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7B5-D088-4DCC-9C0A-993D0894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F95-B5E0-4FFB-A346-92F80A08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26F-0A10-4E8A-BB38-BE82504D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7E5-D064-4916-8E61-523F5F98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E47-0F5E-42FF-89CD-0C6F8212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34E-D03E-4742-A07F-E2B170E6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3463-C07E-4C61-AB48-58068DBE05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6266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6000" spc="-1" strike="noStrike">
                <a:solidFill>
                  <a:srgbClr val="ffffff"/>
                </a:solidFill>
                <a:latin typeface="Arial"/>
              </a:rPr>
              <a:t>WELCOME</a:t>
            </a:r>
            <a:r>
              <a:rPr b="1" lang="es-UY" sz="48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7"/>
          <p:cNvSpPr/>
          <p:nvPr/>
        </p:nvSpPr>
        <p:spPr>
          <a:xfrm>
            <a:off x="1619280" y="1773360"/>
            <a:ext cx="5616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EVEL 1- Masip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eacher: Sohnea Mari Lac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http://t1.gstatic.com/images?q=tbn:ANd9GcRMYHidrD_UqjcQ-USsdte2UvfsZ4Fnz0Cr62D0jqB8zLxWY5qWJg"/>
          <p:cNvPicPr/>
          <p:nvPr/>
        </p:nvPicPr>
        <p:blipFill>
          <a:blip r:embed="rId1"/>
          <a:stretch/>
        </p:blipFill>
        <p:spPr>
          <a:xfrm rot="18916200">
            <a:off x="4785840" y="1287360"/>
            <a:ext cx="4378320" cy="174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To have the knowledge about the basic Language, Math, and 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To enhance their cognitive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To share their learnings in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3.gstatic.com/images?q=tbn:ANd9GcRmXlRX6MHzLZJ2rgUvyBGFUf20dxNn-7E-y-0Qck5a3xizdQV1VQ"/>
          <p:cNvPicPr/>
          <p:nvPr/>
        </p:nvPicPr>
        <p:blipFill>
          <a:blip r:embed="rId1"/>
          <a:stretch/>
        </p:blipFill>
        <p:spPr>
          <a:xfrm rot="1831200">
            <a:off x="5435280" y="1576080"/>
            <a:ext cx="2736720" cy="4073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Alphab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Use of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t0.gstatic.com/images?q=tbn:ANd9GcTWyGcQRMM2HbfDdKxhfTTarXEoJ9VsYKwuzBbDZ0zltCb41wUf"/>
          <p:cNvPicPr/>
          <p:nvPr/>
        </p:nvPicPr>
        <p:blipFill>
          <a:blip r:embed="rId1"/>
          <a:stretch/>
        </p:blipFill>
        <p:spPr>
          <a:xfrm rot="3213600">
            <a:off x="-116640" y="3750120"/>
            <a:ext cx="386244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t0.gstatic.com/images?q=tbn:ANd9GcSkIJAR0drYEjPmolk95kDdLh1JUw4bJ-BbCFkYAv_UJExFN0N7"/>
          <p:cNvPicPr/>
          <p:nvPr/>
        </p:nvPicPr>
        <p:blipFill>
          <a:blip r:embed="rId2"/>
          <a:stretch/>
        </p:blipFill>
        <p:spPr>
          <a:xfrm rot="1954200">
            <a:off x="6443280" y="4653000"/>
            <a:ext cx="254304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Counting from 1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Sets and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Addition and sub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http://t1.gstatic.com/images?q=tbn:ANd9GcRlHJqVislm1_pkqPb_KfYQqkh-nanwQ0FENMrMTlFPTHvwP9kRgA"/>
          <p:cNvPicPr/>
          <p:nvPr/>
        </p:nvPicPr>
        <p:blipFill>
          <a:blip r:embed="rId3"/>
          <a:stretch/>
        </p:blipFill>
        <p:spPr>
          <a:xfrm rot="777000">
            <a:off x="6012000" y="41544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50" autoRev="1" fill="remov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" dur="250" autoRev="1" fill="remov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" dur="250" autoRev="1" fill="remov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50" autoRev="1" fill="remov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" dur="250" autoRev="1" fill="remov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" dur="250" autoRev="1" fill="remov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250" autoRev="1" fill="remov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0" dur="250" autoRev="1" fill="remov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" dur="250" autoRev="1" fill="remov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://t3.gstatic.com/images?q=tbn:ANd9GcRZJ2n1xmdXwy8ZGVTa0MLdFfwrkaXRLKpJa6rzPgS-TZCPaQYn"/>
          <p:cNvPicPr/>
          <p:nvPr/>
        </p:nvPicPr>
        <p:blipFill>
          <a:blip r:embed="rId1"/>
          <a:stretch/>
        </p:blipFill>
        <p:spPr>
          <a:xfrm rot="2656200">
            <a:off x="23400" y="2452680"/>
            <a:ext cx="2892600" cy="277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Finger 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Coloring the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t3.gstatic.com/images?q=tbn:ANd9GcTp46OeQRDAvBc_yXe_m6IQAYx0q4aw1GSBMJJUAOhYEHOv9_n0dA"/>
          <p:cNvPicPr/>
          <p:nvPr/>
        </p:nvPicPr>
        <p:blipFill>
          <a:blip r:embed="rId1"/>
          <a:stretch/>
        </p:blipFill>
        <p:spPr>
          <a:xfrm rot="2137800">
            <a:off x="576000" y="3946680"/>
            <a:ext cx="3263760" cy="216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The Child making use of all that he finds around him, shapes himself for the fu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Maria Montessori”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http://www.ehow.com/preschool-language-developmen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http://www.ehow.com/how_7711772_teach-addition-subtraction-preschooler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http://www.kidsparkz.com/number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http://www.ehow.com/list_5794920_finger-painting-ideas-preschooler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Jonathan</cp:lastModifiedBy>
  <dcterms:modified xsi:type="dcterms:W3CDTF">2012-09-30T13:25:06Z</dcterms:modified>
  <cp:revision>772</cp:revision>
  <dc:subject/>
  <dc:title>Diapositiva 1</dc:title>
</cp:coreProperties>
</file>